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A48-5E9F-46AC-B3A5-5EDBB42A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860-1886-48D1-BC62-3978FD34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836FC-B3AA-464F-B7A4-E327F7BE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FF9A4-0CCB-44A5-B6F6-3A7D0781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C9EBA-7B03-4851-96B9-1B76BA4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D3D81-6F76-4AD7-9996-85520135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BDD4D-BDFE-4429-962D-770AF1B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4F406-4050-45E7-BA7C-15DD6F4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8FDF1-5D14-49CA-AEEC-EE5257D5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6530C-5F26-4C96-9552-387B4D39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6353A-438F-4544-BE78-14E4B851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64846-090F-4974-835F-0566DE2F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C6B-2F07-450F-9490-8C4AF4AF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06E0E-CB70-44EE-A88E-E41E9D60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EC9BF-1093-49D7-B506-76924436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18C59-F00A-4161-B5A0-D33437AB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2EF52-E139-4620-AE41-9950C669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2B2C6-3CF4-400C-9C55-9E7EFAD3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B8D8C-5AA7-4EF4-B6F1-36E1A24F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FFFAC-AA5B-4A6F-A6F6-2BB4C48F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07C22-148E-4059-B8EB-BDA90BB0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7B587-CB45-4BCB-B3AA-79B0E7E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9AF01-7A08-4108-8384-546EA7F8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789-8B24-473B-9160-78632B8F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118F2-1DEB-471B-820A-4FD4D81F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964E-8B77-49D1-BECD-01094BA5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D4BB6-782A-43F7-B032-CE0583F6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0CC23-4C82-46AF-BBD4-6E9B6550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0A6D8-AEC6-48FD-9096-5EAC944D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20CA-51E5-48F2-BFAF-AB71785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6EAAE-7409-4D50-98A4-3B1C6701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07A12-5094-4882-85A1-F05FC85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F81AB-DB70-46E7-8D0B-F610C1E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8CD5E-1609-46F8-A5B6-D51E341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1566-22AA-4C1B-8EEA-ACACC5B5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CFD76-321E-4068-9273-9EB3389E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62F08-C54E-4374-AD57-076673D4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50D9F-6CFC-45F8-A9D7-C3B5016D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12516-7852-451F-B316-24B94233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E4DDB-9F4D-4C7B-8567-97141AC0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3F5FB-99A0-4726-9C4D-2A7A5A6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01FD4-86BB-4B5C-9113-190A260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E315-277B-4719-B661-3992E4E5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928D1-0EEA-4482-B747-5433B3DE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487CC-D286-44E7-B5E0-328AF94B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6DD5-DBB2-4143-ACDD-9F7CD1F6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E32ED-87C5-4D85-A5C7-40CD5FF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B05C2-9D9F-450C-BA2D-BCA1352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F5DD7-614D-4414-93C2-F6C6000D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85CD7-2238-44A5-847D-40A85435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A7FE2-C1B3-41CA-966A-3939BDA0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9FAED-2B0A-4B0F-A8F5-E80B285F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E3108-5304-47AB-AD52-AADABF46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C34A2-29CA-4D4F-A467-866D5266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A367B-5097-4184-9105-510F49F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7A8C0-DD20-4127-836E-BA318063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2B7-B01E-48AF-A193-DBBD74F9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6400D-3D49-4AB0-9845-5D1F5C13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2455F-E45F-441D-A477-DC4BE86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0CA4F-221C-42ED-8FEE-E77A1880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1B06D-22DD-4AD5-B2E2-85EB55C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1B25F-CA02-4B86-AD51-B557699C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CF2BB-E162-401A-89C0-B2768D45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8413A-807E-4040-BD09-10951873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DB9BD-66C0-4661-A462-7432773C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0465F-6583-4708-B482-D5F11EBB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91A694-FC18-4A9D-9FDD-7E32AB49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7F34-AF87-416F-B68B-22C8B189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AD38F-BA96-4FDC-BDC8-8D90349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D861D-6918-4299-B8EA-0C11CAD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C7530-43CE-4795-B97B-D85236A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61F65-48D7-40CC-90D0-563EC86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A300D-79D1-4832-B31B-D2F45B4A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06D40-28C7-486D-B24C-7032029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2AD79-69C3-4B37-BABE-AFE7EA10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67CC4-3814-44FB-B726-57894F89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39F33-20CF-40DF-8D05-5D7D8670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02742-C015-46C4-B3F7-6BF597B0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8804-FF7F-4CB3-B6E2-0BBE741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1664A-5544-48EA-A128-C381FCA3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3B492-82A3-4EA0-AC23-9002574D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C90B2-970F-451B-A545-F67AE73A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B3B10-BC65-469C-AED0-8A152629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8F119-D336-4FE3-B671-96C38AD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754E6-B363-4F41-9394-A08F9C6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F2BBA-C90E-4ADF-BA74-76D2B448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D96F6-E5BD-4372-9F68-5DE86B7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63E76-62E4-4CAA-90FF-9A6A752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708978-4653-469B-AC46-B39FBE01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1A0-E0D7-4FBD-900E-0A98C68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2B464-1580-4037-A956-E5384BA8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96B9E-76B3-40D2-9AC7-E521700C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4CC40-6524-4C98-9C0D-657C92C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C2163-8A5B-424A-B68E-E8EBD065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4DE45-390E-42D6-9117-82C3C6E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1F62E-33FC-4B79-A017-6B6EF6D0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DC27F-498F-4A31-A3B4-59407297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665D2-B30B-47D9-A695-ED81520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CE186-3BBB-4996-8BA9-C786E0C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C0C1F-29EC-42D2-8B6B-C432888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DA15-42FB-4160-9A5F-33943EC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301B3-06A9-46E3-B9D0-4866B57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35823-99FC-4D0B-A7F4-07D8F74C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6A10D-1D16-4FB7-B751-94B476DE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0907E-64FD-4EE8-860A-7EBC3B4B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61A15-A74E-41E7-8E55-853AC0D9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28EDE-19F1-4CF9-854E-2922EB0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B6B15-D099-4D41-B5CA-18E69F5C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13974C-40A2-43AA-84F2-33034EE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6B8C0-2D77-4B5B-BF3B-9909098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A35333-47D8-49E9-86D6-96771CB7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BC2-6453-4FC0-957B-2ED9435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2C3-3B47-40CF-A6BF-B1BABCB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D5127-D7C4-44D8-9DE5-89425758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0DC74-2943-4A62-AF8F-DEDF3C69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DE235-3E89-4B25-877B-CEF48EA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59812-C907-4ECC-A719-7373100F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EF82F-F6D4-4894-A1E5-5D178446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7AC4D-CD0F-4D22-A1AC-E5AEA1B6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18076-84EE-4EAA-A619-8CE2FB53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6F03EF-12E2-4455-8EDA-912883E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78566-0A52-47F8-A24A-EAE8459C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750E5-4E8C-43FA-885B-C3A7C3DF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1447-0FEA-40BB-B995-8ACD18A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6EBA2-0583-4AF2-AC87-25D4E742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28BAD-19CD-4B1C-A457-3C8CC710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E5DB6-231E-4EBD-9C20-709466B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7874B-549D-4A12-9901-E2C4F33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0DED4-3819-4D9F-9A18-860238FD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CB2E2-FD44-4549-9860-F4C456EA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09641-801B-4681-B210-09529BC7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005CB-4015-4FEF-BE61-3B3EF9A3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116DD-0027-413E-9BBF-0D37F311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65278-7E53-47C1-9799-6BA4AC9C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5EB9-1BAD-4090-8858-54BD69B0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D3860-4F36-49B6-A32D-0BFB6ACF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53099-AC94-4EC8-844F-0BE614A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857175-F9E1-417E-879D-8FCC13B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F8CA2-4970-463E-9336-DC19E09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0B65D7-13E6-4D5E-B78A-C27A841E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56669-F7FB-4401-AD2D-8760A918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6C830-8505-4C81-AA6C-8293A8DD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163E3-0EDF-400B-9D3C-10D6C7D5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C35D4-F450-44C1-AAA7-C90EC63D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2C0C2-DD39-4F62-8249-1C2D3087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1B64-C5EE-4405-BBDD-633067AD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B12B2D-5E50-476A-87DA-18FA0D0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A75A6-2A76-4D73-A950-3A324704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AAABF-239B-44B3-9063-2AFFF49E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D998A9-4F9C-4EF1-AC35-2ADAE622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7BBBC-A3E9-487E-AB78-462BA36F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6E3BC-6872-43B1-A427-E5713E2E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BAEDB-9D0E-45AF-AF86-7F5D5E6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5ED50-2780-4FEF-82A2-99441DF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61BEC-326A-494A-8B40-9822638E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F35FF-ED4E-4F6F-9352-4E50D971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519C-E224-4312-839F-0786857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3ADE1-56A0-4829-A70E-6E240D1B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51013-2ABE-4B2F-B822-501E9DE2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17581-CF41-4FE0-8EA4-903795F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FCDDD-200F-4E4B-A872-A85866F5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E6B8F-4559-4C09-B2E2-3241698A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1A47E6-93A2-4832-BE4C-ED8AD3D0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8B171-DBA3-47E5-A83D-FA0840D1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44D93-98E1-4C48-AB1B-47728D1E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9689C-9D37-48C9-B90F-3A14CC25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A4A20-2B8F-4C2B-B249-B9F9BEE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3FBE-1F50-435F-BCCF-24D91388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E0765-78A4-4E9F-B394-7970EA1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78A4FE-8237-4FC2-B32C-F2BFF6C2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D208B-A6ED-43D0-84D7-83827A36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0026-0217-40EE-B983-EAC2F7BB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3CB3-925E-470A-A6CD-BDAEA3CF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2062-60CC-4100-9A32-38A6E14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8E88-AB89-4866-83CF-DCE1F8C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3FB-1C96-46D4-90E7-1FB3CC78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0DAE-F809-4A3C-9D6F-38FE8782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BC8F-CAF5-4CBC-A0E3-F433669E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A32B-DC78-443C-ABA4-A9BBD49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379D-06C1-4D37-A406-B32DE9F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2B60-EDE0-4920-9FB1-5A13A8E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A95F-2636-4B3D-9FCE-D405B71F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19F7-3B4A-4DB3-B1AD-8B15FC01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FB5A7-C2F7-462E-8790-29D8E292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FA37-2F27-4D5B-B36B-CB51B6B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7130E-4AB2-4A16-A12F-CE110324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24B-9986-41D0-B5C0-929F5494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4469-1A10-473B-9101-FB402998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4CE34-113C-4E1C-B927-A15E9CA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95C7D-A5BC-42C2-925B-15D243C3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9B743-84AF-43BB-B3EB-099A183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7095-0159-4128-8324-4718E932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02A3-E483-42AF-A720-08F9CAC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9DB5-6754-4AC2-8906-89288C7E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C921-1181-4DD7-9DBF-C97756AC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6820-95CF-46E9-925F-FA858240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3662-001D-4D84-913E-2F4202C3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AF8-DD14-41B7-A576-CEBFDBF6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57AFA-E1CA-423F-96B4-7A67F08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D3B3-3FA8-41CF-8B8F-A8E04197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09E0-C6CF-48C0-A0BD-CAAA9F6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C9375-1CD6-4C75-B9EE-6D85A649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52CF3-A273-479A-A42D-DA5B96E7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3FEB2-4FC4-4D4C-8577-A3E9B3E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D2439-3AD6-4675-A613-8CF1DC66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E310-E38E-4FA7-96A5-A458FD80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76BF-D41D-4E74-AFD2-63D51CA5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F9CF-59D9-4CFB-8396-56AF4FF5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151-EE3D-473F-8839-1862F37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8377-55D6-4FDB-B8C4-DE32F06D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E7965-2305-4E78-B5D8-6244B0A8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397A-BB1A-4FB5-A9E5-11BE8A42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EC5D-2E80-4C9D-B91C-1F1241C0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86036-D315-4135-98A9-07CBC1C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D26F-9C5F-4E93-9F06-00CC3FC0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D20E-25E3-402B-828D-E0905DFB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E4DD-6ECF-4060-935F-1BE701E6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DA2F-910A-48EA-A238-FD915C9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FECA-EB7E-4311-B9DE-423F69A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274-90CE-4447-B6F6-A694B978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9235-683E-4B2E-97DC-91558532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AD78-3DB0-40F7-B373-1478DBC9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7B6A1-8925-4569-A7A9-E602AC1D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9FD1-6617-4E19-A047-58D16820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D613-DA4E-4A2D-A060-09E9C1D9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3B9B-1E2F-4B3D-9BF4-1E81862A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E9DA7-53EA-4C4C-B413-F36CD7E5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CCD57-0A59-42C5-8F5C-8E758C3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D2F5-7C8A-4A18-8C2D-8898CA16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926B-F590-4C36-A837-1683864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68F-4C29-41FD-88E9-254EDA2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2977-D3BA-4D27-9414-293CCDE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2F44-5670-456A-83D5-48F1E4F3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3DED-C0EF-496F-86A8-EA6AB20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0ACC-005E-4842-BF9B-62D62688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2BE0C-714A-450B-81EB-8F1EEF29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2F261-A038-4C0A-B53A-9137D80E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DED87-70D7-42C1-A295-2C6B5FB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DA39F-F14E-4B6E-A837-E7EB4A32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5CFD1-E2AD-4C7D-9CDC-2A4D2D4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F525F-F68F-480C-BEE0-D0FADAD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66E-0409-4810-A49E-3A9D35D3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A150D-0DDF-42AC-B420-6AC80DF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4575-1D31-4EA2-8809-B62DFD7B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69821-7CB9-4940-8214-1276115D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DA5C-B942-416A-B968-8B30D2C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A1A08-1578-45CE-A867-2FAA3115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4A965-ADE9-4C91-BBEB-B678B785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3D4EB-52CB-40DB-A566-2B637075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04013-D504-462E-980C-7E7C1CF8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E8F21-5B9B-4F37-B991-DA315A3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C964E-67DD-4DDB-A1CA-50DB5B6E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CD6-C081-4D16-BD04-875F505C8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E860-DDE3-4318-9F4D-811E7D434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3817-8D01-4932-A0F4-C441B6322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0ECA-064B-4F59-A14C-B2863D77A9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C568-2BD2-40AB-A440-993862BEFC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59AA-4BCE-487F-8AD8-E919F654D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A7B8-FAF8-4564-8AC8-D89A9DD644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374-5B67-4130-B2B5-03B8A4C5EE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BE2-0474-4223-A6F8-1C88DC623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8A2-E4AE-4C3A-8355-2EB776021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80A2-0B30-4107-9697-59490C025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DBD-2ED3-44AE-9D9E-B624E20B6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2079-6DCA-472C-8AE5-AC1A53E14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5457-2262-422A-9BA2-DBAEA9621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47A0-EF90-4D04-B9F4-8582C13FC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239E-BCE7-47DF-B295-4494537356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02AF-C0C1-46AF-9633-8EC61EC41B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2B5-6DB7-48A3-98A3-B41CC9ECE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94BD-A908-4745-B4E3-4C67455D6C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0AFA-F202-437F-BAFF-8D37B721B3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18C4-C9A9-4C9B-B2EA-1AAF59867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7291-DD3A-4A58-A0DB-73C466C272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B10-BA1D-4775-8A5B-3CBB2B698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51A-B3E7-4B5A-8502-B6B934113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C30-E346-4CE1-BB21-026634D9D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682A-27FD-47F8-AFAD-B6EB28988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C1F3-BB06-43FD-8D47-A2C5A0C40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15CA-06B9-4700-BD64-802D1AB7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AC46-638D-4324-A361-021187B4A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783-6CBA-4153-8A87-DEBBC7ED23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D30C-67FC-4783-A4EB-44682B7DDE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AEB-6739-4375-AA42-7A25D22A0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64F-A406-4450-A5BE-B28E2E62E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88C-A554-4680-B1A3-3BB26C4C56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1D37-7E32-4A4C-8D08-FD0B56762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E705-7081-413B-B28A-3C831E23C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EBB6-7A33-4FB3-864A-A040ED15B9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3743-7DED-4D0C-92F1-A79DC739DF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03DA-6C84-4AD8-B4B4-0A10757DB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7BC2-FFD8-4AAA-B27C-E9D371A1D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709720" y="3081240"/>
            <a:ext cx="37245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"/>
          <p:cNvPicPr/>
          <p:nvPr/>
        </p:nvPicPr>
        <p:blipFill>
          <a:blip r:embed="rId1"/>
          <a:stretch/>
        </p:blipFill>
        <p:spPr>
          <a:xfrm>
            <a:off x="480960" y="1252440"/>
            <a:ext cx="818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2" descr=""/>
          <p:cNvPicPr/>
          <p:nvPr/>
        </p:nvPicPr>
        <p:blipFill>
          <a:blip r:embed="rId1"/>
          <a:stretch/>
        </p:blipFill>
        <p:spPr>
          <a:xfrm>
            <a:off x="438120" y="933480"/>
            <a:ext cx="8267760" cy="4991040"/>
          </a:xfrm>
          <a:prstGeom prst="rect">
            <a:avLst/>
          </a:prstGeom>
          <a:ln w="0">
            <a:noFill/>
          </a:ln>
        </p:spPr>
      </p:pic>
      <p:sp>
        <p:nvSpPr>
          <p:cNvPr id="1073" name="矩形 3"/>
          <p:cNvSpPr/>
          <p:nvPr/>
        </p:nvSpPr>
        <p:spPr>
          <a:xfrm>
            <a:off x="428760" y="1928880"/>
            <a:ext cx="821520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4"/>
          <p:cNvSpPr/>
          <p:nvPr/>
        </p:nvSpPr>
        <p:spPr>
          <a:xfrm>
            <a:off x="428760" y="2428920"/>
            <a:ext cx="8143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5"/>
          <p:cNvSpPr/>
          <p:nvPr/>
        </p:nvSpPr>
        <p:spPr>
          <a:xfrm>
            <a:off x="439560" y="2914560"/>
            <a:ext cx="8143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6"/>
          <p:cNvSpPr/>
          <p:nvPr/>
        </p:nvSpPr>
        <p:spPr>
          <a:xfrm>
            <a:off x="357120" y="3357720"/>
            <a:ext cx="814392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7"/>
          <p:cNvSpPr/>
          <p:nvPr/>
        </p:nvSpPr>
        <p:spPr>
          <a:xfrm>
            <a:off x="571680" y="3857760"/>
            <a:ext cx="8143560" cy="393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8"/>
          <p:cNvSpPr/>
          <p:nvPr/>
        </p:nvSpPr>
        <p:spPr>
          <a:xfrm>
            <a:off x="500040" y="4357800"/>
            <a:ext cx="8143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矩形 9"/>
          <p:cNvSpPr/>
          <p:nvPr/>
        </p:nvSpPr>
        <p:spPr>
          <a:xfrm>
            <a:off x="414360" y="4782960"/>
            <a:ext cx="8143920" cy="439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10"/>
          <p:cNvSpPr/>
          <p:nvPr/>
        </p:nvSpPr>
        <p:spPr>
          <a:xfrm>
            <a:off x="357120" y="5286240"/>
            <a:ext cx="792972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95280" y="1190520"/>
            <a:ext cx="8353440" cy="44769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71720" y="3357720"/>
            <a:ext cx="15001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3714840" y="3357720"/>
            <a:ext cx="1000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7286760" y="3357720"/>
            <a:ext cx="100008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2643120" y="3817800"/>
            <a:ext cx="100008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4037040" y="3832200"/>
            <a:ext cx="120960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857160" y="4786200"/>
            <a:ext cx="100008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2500200" y="4794120"/>
            <a:ext cx="785880" cy="298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6572160" y="4786200"/>
            <a:ext cx="100008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7786800" y="4786200"/>
            <a:ext cx="85716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714240" y="5286240"/>
            <a:ext cx="78588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419040" y="819000"/>
            <a:ext cx="8305920" cy="5220000"/>
          </a:xfrm>
          <a:prstGeom prst="rect">
            <a:avLst/>
          </a:prstGeom>
          <a:ln w="0">
            <a:noFill/>
          </a:ln>
        </p:spPr>
      </p:pic>
      <p:sp>
        <p:nvSpPr>
          <p:cNvPr id="1035" name="矩形 2"/>
          <p:cNvSpPr/>
          <p:nvPr/>
        </p:nvSpPr>
        <p:spPr>
          <a:xfrm>
            <a:off x="1000080" y="1785960"/>
            <a:ext cx="85716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5429160" y="1785960"/>
            <a:ext cx="1357560" cy="363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1071720" y="2286000"/>
            <a:ext cx="64296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5"/>
          <p:cNvSpPr/>
          <p:nvPr/>
        </p:nvSpPr>
        <p:spPr>
          <a:xfrm>
            <a:off x="2214720" y="2286000"/>
            <a:ext cx="100008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6"/>
          <p:cNvSpPr/>
          <p:nvPr/>
        </p:nvSpPr>
        <p:spPr>
          <a:xfrm>
            <a:off x="3571920" y="2286000"/>
            <a:ext cx="128592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7"/>
          <p:cNvSpPr/>
          <p:nvPr/>
        </p:nvSpPr>
        <p:spPr>
          <a:xfrm>
            <a:off x="5715000" y="2286000"/>
            <a:ext cx="71424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8"/>
          <p:cNvSpPr/>
          <p:nvPr/>
        </p:nvSpPr>
        <p:spPr>
          <a:xfrm>
            <a:off x="6858000" y="2286000"/>
            <a:ext cx="785880" cy="297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9"/>
          <p:cNvSpPr/>
          <p:nvPr/>
        </p:nvSpPr>
        <p:spPr>
          <a:xfrm>
            <a:off x="2643120" y="3714840"/>
            <a:ext cx="157176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10"/>
          <p:cNvSpPr/>
          <p:nvPr/>
        </p:nvSpPr>
        <p:spPr>
          <a:xfrm>
            <a:off x="4643280" y="3714840"/>
            <a:ext cx="71460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1"/>
          <p:cNvSpPr/>
          <p:nvPr/>
        </p:nvSpPr>
        <p:spPr>
          <a:xfrm>
            <a:off x="5857920" y="3714840"/>
            <a:ext cx="1285920" cy="342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2"/>
          <p:cNvSpPr/>
          <p:nvPr/>
        </p:nvSpPr>
        <p:spPr>
          <a:xfrm>
            <a:off x="2571840" y="4214880"/>
            <a:ext cx="714240" cy="334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3"/>
          <p:cNvSpPr/>
          <p:nvPr/>
        </p:nvSpPr>
        <p:spPr>
          <a:xfrm>
            <a:off x="3714840" y="4214880"/>
            <a:ext cx="1214280" cy="322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4"/>
          <p:cNvSpPr/>
          <p:nvPr/>
        </p:nvSpPr>
        <p:spPr>
          <a:xfrm>
            <a:off x="1251000" y="5165640"/>
            <a:ext cx="714240" cy="298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5"/>
          <p:cNvSpPr/>
          <p:nvPr/>
        </p:nvSpPr>
        <p:spPr>
          <a:xfrm>
            <a:off x="5143680" y="5143680"/>
            <a:ext cx="107136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6"/>
          <p:cNvSpPr/>
          <p:nvPr/>
        </p:nvSpPr>
        <p:spPr>
          <a:xfrm>
            <a:off x="6858000" y="5143680"/>
            <a:ext cx="150012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66560" y="1971720"/>
            <a:ext cx="8210880" cy="2914560"/>
          </a:xfrm>
          <a:prstGeom prst="rect">
            <a:avLst/>
          </a:prstGeom>
          <a:ln w="0">
            <a:noFill/>
          </a:ln>
        </p:spPr>
      </p:pic>
      <p:sp>
        <p:nvSpPr>
          <p:cNvPr id="1051" name="矩形 2"/>
          <p:cNvSpPr/>
          <p:nvPr/>
        </p:nvSpPr>
        <p:spPr>
          <a:xfrm>
            <a:off x="1357200" y="3000240"/>
            <a:ext cx="692964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1214280" y="3929040"/>
            <a:ext cx="750096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"/>
          <p:cNvSpPr/>
          <p:nvPr/>
        </p:nvSpPr>
        <p:spPr>
          <a:xfrm>
            <a:off x="1071720" y="4429080"/>
            <a:ext cx="378612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419040" y="1909800"/>
            <a:ext cx="83059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8258040" cy="2571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2"/>
          <a:stretch/>
        </p:blipFill>
        <p:spPr>
          <a:xfrm>
            <a:off x="642960" y="3929040"/>
            <a:ext cx="8115120" cy="933480"/>
          </a:xfrm>
          <a:prstGeom prst="rect">
            <a:avLst/>
          </a:prstGeom>
          <a:ln w="0">
            <a:noFill/>
          </a:ln>
        </p:spPr>
      </p:pic>
      <p:sp>
        <p:nvSpPr>
          <p:cNvPr id="1057" name="矩形 3"/>
          <p:cNvSpPr/>
          <p:nvPr/>
        </p:nvSpPr>
        <p:spPr>
          <a:xfrm>
            <a:off x="1071720" y="2857680"/>
            <a:ext cx="392904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1428840" y="3357720"/>
            <a:ext cx="250020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6"/>
          <p:cNvSpPr/>
          <p:nvPr/>
        </p:nvSpPr>
        <p:spPr>
          <a:xfrm>
            <a:off x="6643800" y="3357720"/>
            <a:ext cx="2143080" cy="349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7"/>
          <p:cNvSpPr/>
          <p:nvPr/>
        </p:nvSpPr>
        <p:spPr>
          <a:xfrm>
            <a:off x="465120" y="3925800"/>
            <a:ext cx="1500120" cy="33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8"/>
          <p:cNvSpPr/>
          <p:nvPr/>
        </p:nvSpPr>
        <p:spPr>
          <a:xfrm>
            <a:off x="2892600" y="4336920"/>
            <a:ext cx="1285560" cy="349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229600" cy="3857760"/>
          </a:xfrm>
          <a:prstGeom prst="rect">
            <a:avLst/>
          </a:prstGeom>
          <a:ln w="0">
            <a:noFill/>
          </a:ln>
        </p:spPr>
      </p:pic>
      <p:sp>
        <p:nvSpPr>
          <p:cNvPr id="1063" name="矩形 2"/>
          <p:cNvSpPr/>
          <p:nvPr/>
        </p:nvSpPr>
        <p:spPr>
          <a:xfrm>
            <a:off x="2714760" y="1428840"/>
            <a:ext cx="1000080" cy="411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3"/>
          <p:cNvSpPr/>
          <p:nvPr/>
        </p:nvSpPr>
        <p:spPr>
          <a:xfrm>
            <a:off x="1285920" y="1928880"/>
            <a:ext cx="1000080" cy="411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4"/>
          <p:cNvSpPr/>
          <p:nvPr/>
        </p:nvSpPr>
        <p:spPr>
          <a:xfrm>
            <a:off x="1492200" y="2449440"/>
            <a:ext cx="10000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"/>
          <p:cNvSpPr/>
          <p:nvPr/>
        </p:nvSpPr>
        <p:spPr>
          <a:xfrm>
            <a:off x="7643880" y="3429000"/>
            <a:ext cx="10000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6"/>
          <p:cNvSpPr/>
          <p:nvPr/>
        </p:nvSpPr>
        <p:spPr>
          <a:xfrm>
            <a:off x="500040" y="3914640"/>
            <a:ext cx="14176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7"/>
          <p:cNvSpPr/>
          <p:nvPr/>
        </p:nvSpPr>
        <p:spPr>
          <a:xfrm>
            <a:off x="1000080" y="4857840"/>
            <a:ext cx="371484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447840" y="1419120"/>
            <a:ext cx="824832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414360" y="1471680"/>
            <a:ext cx="83152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1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